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6325-5E5F-48A0-A0CD-D2E58A62F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0BF2-D8FE-41E2-B5F1-107128AD4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4575-4D30-4E2E-943E-0681CC7F2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F382-D505-477F-8BCD-B8C8C7842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6ED9-C5F6-4467-86EA-2E6E547DD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1DAD-D7A0-425F-A78B-495BB5C407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E39A-086F-4B47-B4D6-B35DCF4A5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5649-7BDF-451F-8921-8520216FB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4A6B-B9CD-4B92-820E-7D7C48EFCB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7901-08A9-4807-8A9D-5205898D0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ABC4-4526-41E1-A26A-82D0FE0E9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6B77-536F-4E0A-A20B-C0CA2C644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4922-2FC3-4012-BBD8-87EB8F4FE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D0B1-DE01-425A-BF11-3987649B5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12FE-2D5E-4F80-A506-9CD76B5738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85CF-0FA0-4300-8068-6C9FC0239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3432240" y="465120"/>
            <a:ext cx="3097080" cy="2322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A24A-12F9-4590-8461-95780D4F6A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DC07-6AB9-49E1-AAE2-162B94026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5188-DFD1-4D29-8FEE-5A3A38820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776A-DBE0-4CDA-B478-DDB709475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5996-3450-43F4-AC21-3B58106A1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488D-6C9B-4DA1-BDE2-E82D45F77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246B-9FD4-48A5-9434-6AFBF25F18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9DDF-F5A1-43C6-8389-F5209262C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8660-3B8A-45C5-BB8D-2CE124873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5F31-157A-44E3-AFE4-8AC6B6A0D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66CF-A6BF-496C-9D03-526F09193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400A-D97C-41B9-829B-34700A60F8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C63F-C65F-41F6-920B-1A460362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AFAB-0605-4FA0-9990-3A7D835D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B267-080A-42E8-BFB7-738E873B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9969-0F2E-4FC9-8C4D-E7F1503A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9294-0C1D-44EC-87B3-25BAEC25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39F1-CA26-4EC0-9E51-E7BBD784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FE3A-70EC-46FD-B63F-84659338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9FE4-3625-4FBB-8A21-5543B7B1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83BB-1208-4057-96D6-85525ADD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F8E-D6B4-4E97-91A2-F067BE44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36F9-4F3D-45C4-9CE3-9E3EE5F5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F40C-963A-4E12-B4AA-FEF78CE6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F1BD-9C1C-40E7-BB03-01760280EBF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kt na ciljane prihode od kriminal na internetu u Jugoistočnoj Europi i Tursko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kt na ciljane prihode od kriminal na internetu u Jugoistočnoj Europi i Tursko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e tokova novca od internet krimina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ja 1.4.2/Čas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novčanih krijumča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aktivnost novčanih krijumča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đunarodni transfe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đunarodni transf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minalci koriste međunarodne transfere različitih vrsta kako bi se otežalo praćenje tokova prihoda od krimina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đunarodni transferi se mogu obavljati pomoću bankovnih računa, e-valute, usluga plaćanja preko interneta, usluga novčane doznake it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đunarodni transf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izazovi nastaju u istrazi, pretresanju, oduzimanju i konfiskaciji kriminalnih sredstava kada se sredstva prenose na međunarodnom niv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međunarodnog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trola kriminalne dobiti (na primer) od kompromitovanog bankovnog računa klijen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redstva su preneta na krijumčare u istoj jurisdikci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jumčari prenose sredstva putem međunarodnog bankarskog prenosa na fizičko ili pravno lice u drugoj jurisdikci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ćenja međunarodnih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izvori dokaza mogu biti korišćeni kako bi se naznačilo korištenje međunarodnih transf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ćenja međunarodnih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međunarodnih transf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Virtuelne valu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elne valute i e-nov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Za koje virtuelne valute i e-novac zna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inolog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irtuelna valu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irtualna valuta je digitalna reprezentacija vrednosti kojom se može digitalno trgovati i funkcioniše kao (1) sredstvo razmene; (2) jedinica računa; i / ili (3) skladište vrednosti, ali nema status zakonitog tendera u bilo kojoj jurisdikcij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ektronski novac / e-nova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Virtuelna valuta se razlikuje od e-novca, što je digitalno predstavljanje dekretne valute koja se koristi za elektronski prenos vrednosti izražene u dekretnoj valuti. E-novac je mehanizam digitalnog prenosa dekretne valute - tj. on elektronski prenosi vrednost koja ima status zakonskog tende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gitalna valu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igitalna valuta je digitalna reprezentacija bilo virtualne valute (ne-dekretne) ili e-novca (dekretn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ljevi ses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objasne tipologije kriminalnog toka novca korišćenjem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včanih krijumča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đunarodnih transf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elnih valu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elne valute i e-nov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mislite o značaju izraza "digitalno predstavljanje" u gore navedenim definicija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tegorizacija virtuelnih valu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nvertibil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Konvertibilna virtuelna valuta ima ekvivalentnu vrednost u stvarnoj valuti i može se razmenjivati napred-nazad za stvarnu valutu. Primeri: Bitcoin, Second Life Linden dolari, WebMoney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ekonvertibl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Nekonvertibilna virtuelna valuta ima za cilj da bude specifična za određeni virtuelni domen ili svet, a prema pravilima koja regulišu njenu upotrebu ne može se zameniti za dekretnu valutu. Primeri: Q Coins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entralizov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Centralizovane virtuelne valute imaju jedinstveni administrativni organ (tj. treće lice) koji kontroliše sistem. Administrator izdaje valutu, uspostavlja pravila za njenu upotrebu, vodi centralnu knjigu za plaćanje i ima nadležnost da otkupi valutu. Primeri: Linden dolari, WebMoney, World of Warcraft Gold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ecentralizova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Decentralizovane virtuelne valute su distribuirane, matematičke bazirane, virtuelne valute od jedne do druge, bez centralnog administrativnog organa, bez centralnog nadzora i bez nadgledanja. Primeri: Bitcoin, LiteCoin, Rippl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ija slučaja: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Bitcoi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je konvertibilna, decentralizovana virtuelna valut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kcije se odvijaju između korisnika bez posrednik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ansakcije su potvrđene koristeći javnu distribuiranu knjigu za plaćanje, koja se zove blokčejn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(blockchain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Bitcoin mining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je proces kojim korisnici nude svoja računarska ovlašćenja da verifikuju i uknjiže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bitcoi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ransakcije u blokčejnu. Za to korisnici dobijaju nagradu u novostvorenim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bitcoinim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ija slučaja: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rakteristik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guće su globalne transakci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ktično trenutne transakcije (oko 10 minuta dok se transakcija ne potvrdi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kcije se odvijaju između anonimnih ID-a (novčanik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a (ili nulta) taksa transakci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kcije nisu reverzibil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MC900434845"/>
          <p:cNvPicPr/>
          <p:nvPr/>
        </p:nvPicPr>
        <p:blipFill>
          <a:blip r:embed="rId1"/>
          <a:stretch/>
        </p:blipFill>
        <p:spPr>
          <a:xfrm>
            <a:off x="5715000" y="2008080"/>
            <a:ext cx="1612800" cy="1613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MP900402149"/>
          <p:cNvPicPr/>
          <p:nvPr/>
        </p:nvPicPr>
        <p:blipFill>
          <a:blip r:embed="rId2"/>
          <a:stretch/>
        </p:blipFill>
        <p:spPr>
          <a:xfrm>
            <a:off x="914400" y="2160720"/>
            <a:ext cx="1447920" cy="1301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pc"/>
          <p:cNvPicPr/>
          <p:nvPr/>
        </p:nvPicPr>
        <p:blipFill>
          <a:blip r:embed="rId3"/>
          <a:stretch/>
        </p:blipFill>
        <p:spPr>
          <a:xfrm>
            <a:off x="3581280" y="3760920"/>
            <a:ext cx="1251000" cy="1371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6"/>
          <p:cNvSpPr/>
          <p:nvPr/>
        </p:nvSpPr>
        <p:spPr>
          <a:xfrm>
            <a:off x="685800" y="3456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orisnički račun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570640" y="3532320"/>
            <a:ext cx="182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včanik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itco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3431880" y="505620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&amp;C Infrastruk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0"/>
          <p:cNvSpPr/>
          <p:nvPr/>
        </p:nvSpPr>
        <p:spPr>
          <a:xfrm>
            <a:off x="2362320" y="277020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1"/>
          <p:cNvSpPr/>
          <p:nvPr/>
        </p:nvSpPr>
        <p:spPr>
          <a:xfrm flipH="1" flipV="1">
            <a:off x="1587240" y="3912840"/>
            <a:ext cx="22222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22"/>
          <p:cNvSpPr/>
          <p:nvPr/>
        </p:nvSpPr>
        <p:spPr>
          <a:xfrm>
            <a:off x="2286000" y="3836880"/>
            <a:ext cx="15238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23"/>
          <p:cNvSpPr/>
          <p:nvPr/>
        </p:nvSpPr>
        <p:spPr>
          <a:xfrm flipV="1">
            <a:off x="4800600" y="3912840"/>
            <a:ext cx="8380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6400800" y="39895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6" descr="MC900139499"/>
          <p:cNvPicPr/>
          <p:nvPr/>
        </p:nvPicPr>
        <p:blipFill>
          <a:blip r:embed="rId4"/>
          <a:stretch/>
        </p:blipFill>
        <p:spPr>
          <a:xfrm>
            <a:off x="7238880" y="4903920"/>
            <a:ext cx="1320840" cy="1371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MC900445014"/>
          <p:cNvPicPr/>
          <p:nvPr/>
        </p:nvPicPr>
        <p:blipFill>
          <a:blip r:embed="rId5"/>
          <a:stretch/>
        </p:blipFill>
        <p:spPr>
          <a:xfrm>
            <a:off x="1143000" y="2160720"/>
            <a:ext cx="941400" cy="129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8" descr="robber_clipart"/>
          <p:cNvPicPr/>
          <p:nvPr/>
        </p:nvPicPr>
        <p:blipFill>
          <a:blip r:embed="rId6"/>
          <a:stretch/>
        </p:blipFill>
        <p:spPr>
          <a:xfrm>
            <a:off x="3851280" y="5594400"/>
            <a:ext cx="853920" cy="12193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9"/>
          <p:cNvSpPr/>
          <p:nvPr/>
        </p:nvSpPr>
        <p:spPr>
          <a:xfrm>
            <a:off x="6583680" y="619920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rijumčar, tj. “mazga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2532600" y="6097680"/>
            <a:ext cx="11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rimin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31"/>
          <p:cNvSpPr/>
          <p:nvPr/>
        </p:nvSpPr>
        <p:spPr>
          <a:xfrm flipH="1">
            <a:off x="4787640" y="5970600"/>
            <a:ext cx="2755800" cy="27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rivična upotreba virtuelne valute: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Ransom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kosistem virtualne val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zmena virtualne valu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ministrator virtuelne valu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orisnik / Vlasni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včanik virtuelne valu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avalac novčani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gov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stali entiteti (programeri itd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fejs između virtualnih valuta i tradicionalnog finansijskog sist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virtualne val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rivično stečena sredstva pretvaraju se u virtuelnu valutu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no, kriminalne usluge se plaćaju u virtualnoj valu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no, sredstva su iznuđena od žrtava u vidu virtualne valu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irtuelna valuta se trguje ili razmenjuje za dekretne valut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bog neusaglašene regulacije virtuelnih valuta, razmena virtuelnih valuta u svim jurisdikcijama ne može imati adekvatne kupovne evidencije i / ili obaveze izveštavanj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upotrebe virtuelnih valu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se izvori dokaza mogu koristiti da bi se naznačila upotreba virtuelnih valu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upotrebe virtuelnih valu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davalaca dozna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včani krijumča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mrzavanje, oduzimanje i konfiskacija virtuelne val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zamrzavanje, oduzimanje i konfiskaciju sredstava koje poseduje davalac uluga plaćanja preko interne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kapitula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objasne tipologiju kriminalnog toka novca korišćenja novčanih krijumča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včani krijumča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đunarodni transf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tuelnih valu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3527280" y="4500720"/>
            <a:ext cx="210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včani krijumča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včani krijumčari su suštinska komponenta mnogih šema pranja novca na internet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rijumčari se regrutuju kroz razne tehnike, koje se mogu široko kategorizovati n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brovoljne krijumčare, koje se regrutuju unapred znajući da učestvuju u ilegalnim aktivnostim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oljne krijumčare koji se regrutuju preko varljivih sredstava, poput lažne ponude za posa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brovoljni ili nevoljni krijumčar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novčanih krijumča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zička lica se regrutuju ili dobrovoljno ili nevolj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redstva se prenose na bankovni račun krijumča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jumčar zatim ili povlači sredstva kao gotovinu ili prenosi sredstva na drugi račun (ili u inostranstv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jumčar zadržava provizi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načaj uhapšenih/osuđenih krijumčar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Šta je novačani krijumč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U čemu je problem sa novčanim krijumčari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novčanih krijumča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se izvori dokaza mogu koristiti kako bi se naznačila upotreba novčanih krijumča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Aleksandra</cp:lastModifiedBy>
  <cp:lastPrinted>2016-05-18T07:38:13Z</cp:lastPrinted>
  <dcterms:modified xsi:type="dcterms:W3CDTF">2017-10-10T13:43:45Z</dcterms:modified>
  <cp:revision>349</cp:revision>
  <dc:subject/>
  <dc:title>PowerPoint Presentation</dc:title>
</cp:coreProperties>
</file>